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DD7-434C-4179-8CBE-7AF68BF0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F53-A638-496D-AA56-4B9FCC70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055-EB66-48C9-80FD-C23D5AC0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1D2-AB6C-4B55-81FC-867E363C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5AD-9D9E-4965-91C1-84372AFC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19CB-077A-4778-BA26-FBA7B0EE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CB2-F5C1-4F30-A561-EAAAFFDC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E40-A9A4-4B1C-93D2-D3632807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108-D6B0-4857-ABE5-CF465401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DAB-BCE4-4C00-A4E0-B8E88508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7B9-2AAD-4258-88E1-6345665D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CE5-CC59-466D-92D4-D12A2ED2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0577-630D-4362-9B47-DC7F17FB872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Ver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2205000"/>
            <a:ext cx="289548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Je rend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u rend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 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us rend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ous rend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s rend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205000"/>
            <a:ext cx="289584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Je fini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u fini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 fini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us fini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ous fini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ss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s fini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s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05000"/>
            <a:ext cx="289548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Je march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u march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 march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us march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ous march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s march</a:t>
            </a:r>
            <a:r>
              <a:rPr b="0" lang="fr-CA" sz="2400" spc="-1" strike="noStrike">
                <a:solidFill>
                  <a:srgbClr val="ff0066"/>
                </a:solidFill>
                <a:latin typeface="Arial"/>
              </a:rPr>
              <a:t>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1676520"/>
            <a:ext cx="28954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erbes en </a:t>
            </a:r>
            <a:r>
              <a:rPr b="0" lang="fr-CA" sz="2800" spc="-1" strike="noStrike">
                <a:solidFill>
                  <a:srgbClr val="0000d4"/>
                </a:solidFill>
                <a:latin typeface="Arial"/>
              </a:rPr>
              <a:t>-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1676520"/>
            <a:ext cx="28958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erbes en </a:t>
            </a:r>
            <a:r>
              <a:rPr b="0" lang="fr-CA" sz="2800" spc="-1" strike="noStrike">
                <a:solidFill>
                  <a:srgbClr val="0000d4"/>
                </a:solidFill>
                <a:latin typeface="Arial"/>
              </a:rPr>
              <a:t>–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676520"/>
            <a:ext cx="28954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erbes en </a:t>
            </a:r>
            <a:r>
              <a:rPr b="0" lang="fr-CA" sz="2800" spc="-1" strike="noStrike">
                <a:solidFill>
                  <a:srgbClr val="0000d4"/>
                </a:solidFill>
                <a:latin typeface="Arial"/>
              </a:rPr>
              <a:t>–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676520"/>
            <a:ext cx="8686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0500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851360"/>
            <a:ext cx="8686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76520"/>
            <a:ext cx="0" cy="3174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676520"/>
            <a:ext cx="0" cy="317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1676520"/>
            <a:ext cx="0" cy="317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15400" y="1676520"/>
            <a:ext cx="0" cy="3174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1:22:32Z</dcterms:created>
  <dc:creator>menb</dc:creator>
  <dc:description/>
  <dc:language>en-US</dc:language>
  <cp:lastModifiedBy>menb</cp:lastModifiedBy>
  <dcterms:modified xsi:type="dcterms:W3CDTF">2008-05-08T11:23:02Z</dcterms:modified>
  <cp:revision>1</cp:revision>
  <dc:subject/>
  <dc:title>Verbes</dc:title>
</cp:coreProperties>
</file>